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DBA-5EFC-461D-AE71-5119DE91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B0A-0880-43A5-97DE-7E69E4D2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FE0-E334-4A93-95D3-F8DC21EF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9DC-7CFE-4A30-9821-FEDD640C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B332-EBA0-4D3E-A9E6-47749AF3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9385-4FA5-40F7-8773-2BB7D166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EBC3-E1A5-4BC4-AC46-C78ECB9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BF37-3A45-4138-9A3A-49794744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A69F-3756-4FAD-B0F7-6D52BC37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F565-751E-452A-A11F-A92ACC5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F2C7-FE7F-4CCF-B52B-E2B7669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929-7D52-4BF8-BA80-F10D94E0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48E-3DF2-4B4C-81D7-D269165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0EC-2C9D-44A0-AA3B-7E8C857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B79D-9862-4F07-B5DF-8107D7D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8DDC-DA11-4155-8986-36AB86F5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20C8-11A4-408A-BC6D-DC0DD12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FDC-DC8B-4C5B-9D5C-35FD8F1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DF1-5E1D-4935-A850-B296602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E8C-2816-4A67-8F51-85F50B43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EEB-2566-4C45-8EE9-81555AE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F3A-255F-4D3B-BAC9-22C427B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3E6-DACD-4F11-BC44-B1000F5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E35-C7B8-41F5-A118-E1196AF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9EC-C2C9-4F2E-B1EF-6E07DE5584E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FA3-A254-4735-B4AC-13AB967081B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aber vs. Conoc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09680" y="1143000"/>
            <a:ext cx="6934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ber is “head knowledge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cts &amp; inform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know how to ver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onocer is “heart knowledge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lac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be familiar with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meet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conju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ber &amp; Conocer are both irregular ONLY in the yo fo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sé   and Yo conoz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l other forms are regul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bes, sabe, sabemos, sabéis, sab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noces, conoce, conocemos, conocéis, conoc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hile y Casi se mue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no __ mucho de Chi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__ a Pepe el primer dí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pe no __ a muchas personas en Temu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s estudiantes __ la música de los Estados Unid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no __ por qué dicen chau en Chi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 América del Su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219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__ que Buenos Aires es la capital de la Argent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 Sr. Hernandez__ muy bien a Chi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quiero__ la cue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lson__ bailar el tango muy bie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sotros __ los nombres de las capitales sudamericana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los no__ quién es Eva Per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5:41:41Z</dcterms:created>
  <dc:creator>WCSD</dc:creator>
  <dc:description/>
  <dc:language>en-US</dc:language>
  <cp:lastModifiedBy>localadmin</cp:lastModifiedBy>
  <dcterms:modified xsi:type="dcterms:W3CDTF">2011-01-20T21:23:56Z</dcterms:modified>
  <cp:revision>11</cp:revision>
  <dc:subject/>
  <dc:title>Saber vs. Conocer</dc:title>
</cp:coreProperties>
</file>